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E8F-CA46-4B20-88D0-B8654124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DD7-9561-44E5-8EB5-C1034EF3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5D8-24EC-4532-93AB-9336766B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E38-2F53-4FDB-A44A-E3BEF54C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C62-5D4D-4806-85F7-71187A5E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1E9-E467-4719-8954-54F20E69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F1F-ABE6-4938-8938-71C2EDA3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6C0-985C-4154-8B4F-FE93F400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1AC-4FB8-4FEA-A3C7-3994BA91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D1E-1B58-4806-8698-4C43EA82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903-C0FE-4F7F-B9BF-5E94BFBB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4A0-CC3C-48C1-B680-60FBB70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A577-09C5-4A25-B6D7-3D82C3368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Question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(Remember your question can not have a yes/ no answer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eal world phenomena ques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would happen if _______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es ___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es ____________affect the 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blem posing ques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happens to _____________ if we change _____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 we ___________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can we __________________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Documents and Settings\127sweeta\Local Settings\Temporary Internet Files\Content.IE5\WOE342NB\MCj04348590000[1].png"/>
          <p:cNvPicPr/>
          <p:nvPr/>
        </p:nvPicPr>
        <p:blipFill>
          <a:blip r:embed="rId1"/>
          <a:stretch/>
        </p:blipFill>
        <p:spPr>
          <a:xfrm>
            <a:off x="7162920" y="46483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edictio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ink _____________ will happen because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_________ then ___________ because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ocuments and Settings\127sweeta\Local Settings\Temporary Internet Files\Content.IE5\WOE342NB\MCj03565170000[1].wmf"/>
          <p:cNvPicPr/>
          <p:nvPr/>
        </p:nvPicPr>
        <p:blipFill>
          <a:blip r:embed="rId1"/>
          <a:stretch/>
        </p:blipFill>
        <p:spPr>
          <a:xfrm>
            <a:off x="1219320" y="4191120"/>
            <a:ext cx="6037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lanning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ould be chang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ould be kept the sa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differences be observed or measur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127sweeta\Local Settings\Temporary Internet Files\Content.IE5\9FVX7X4D\MCj04238280000[1].wmf"/>
          <p:cNvPicPr/>
          <p:nvPr/>
        </p:nvPicPr>
        <p:blipFill>
          <a:blip r:embed="rId1"/>
          <a:stretch/>
        </p:blipFill>
        <p:spPr>
          <a:xfrm>
            <a:off x="7124760" y="4317840"/>
            <a:ext cx="12571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Observations, Data, Charts, Graphs, Drawings, and Illustr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are ____________ the same as ___________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are _____________different from ______________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did you notice when you _________________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the types of graphs you know, which one is the most appropriate to show your data? Bar Graph? Line Graph? Pie Char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are you going to name or title your graph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is the way to show your data: scale, intervals, symbol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lder student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re is our dependent and independent variabl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are you going to name each axi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127sweeta\Local Settings\Temporary Internet Files\Content.IE5\WOE342NB\MCj04420200000[1].wmf"/>
          <p:cNvPicPr/>
          <p:nvPr/>
        </p:nvPicPr>
        <p:blipFill>
          <a:blip r:embed="rId1"/>
          <a:stretch/>
        </p:blipFill>
        <p:spPr>
          <a:xfrm>
            <a:off x="6699240" y="5392800"/>
            <a:ext cx="18414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laims and Evidence: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laims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v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819520"/>
          <a:ext cx="8229600" cy="3504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ai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videnc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claim that _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know that ___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 claim this because ___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 know this because ____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rawing Conclusions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day I learned ____________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know this because _____________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Documents and Settings\127sweeta\Local Settings\Temporary Internet Files\Content.IE5\9FVX7X4D\MCj04418800000[1].wmf"/>
          <p:cNvPicPr/>
          <p:nvPr/>
        </p:nvPicPr>
        <p:blipFill>
          <a:blip r:embed="rId1"/>
          <a:stretch/>
        </p:blipFill>
        <p:spPr>
          <a:xfrm>
            <a:off x="6599160" y="4670280"/>
            <a:ext cx="12794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Reflection: Next Steps, New Ques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wonder what would happen if  ___________________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Documents and Settings\127sweeta\Local Settings\Temporary Internet Files\Content.IE5\WOE342NB\MCj04042630000[1].wmf"/>
          <p:cNvPicPr/>
          <p:nvPr/>
        </p:nvPicPr>
        <p:blipFill>
          <a:blip r:embed="rId1"/>
          <a:stretch/>
        </p:blipFill>
        <p:spPr>
          <a:xfrm>
            <a:off x="2209680" y="3200400"/>
            <a:ext cx="4114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9:28:16Z</dcterms:created>
  <dc:creator>127sweeta</dc:creator>
  <dc:description/>
  <dc:language>en-US</dc:language>
  <cp:lastModifiedBy>127mitchella</cp:lastModifiedBy>
  <dcterms:modified xsi:type="dcterms:W3CDTF">2011-08-22T18:40:50Z</dcterms:modified>
  <cp:revision>16</cp:revision>
  <dc:subject/>
  <dc:title>Using Science Notebooks by Michael P. Klentschy</dc:title>
</cp:coreProperties>
</file>